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A8C-4EE2-4567-BE3F-37CC0467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C1B-5CC7-45BB-AE85-2B07DDFC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1FA-396A-454A-A77B-5FB1BD50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4E3-3A59-48F8-B859-67C852FE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E0E-B3AC-437B-A55D-1E1EC8F9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2B4-DBFE-4917-B746-314EE751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CDD-C911-440A-AEFB-F5F61702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B3E-F433-4D2B-BA30-7577E20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29D-6EBE-4003-B7DB-A9686B3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CB0-5E9D-4B26-A966-62CC41F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F82-CDEE-4DBE-833F-0ACE15E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C89-FE52-4798-81D4-347F82E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7714-A887-4988-A708-6933E1C084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чебная презен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емпы роста реальных доходов насе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2560" y="782640"/>
          <a:ext cx="803736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782640"/>
                    <a:ext cx="803736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V="1">
            <a:off x="5257800" y="990360"/>
            <a:ext cx="0" cy="4724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00800" y="990360"/>
            <a:ext cx="0" cy="4724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81240" y="4724280"/>
            <a:ext cx="207828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ерв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асшир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отребительск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про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42900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2320" y="3505320"/>
            <a:ext cx="20217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отребитель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бум середи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00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22096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зменение темпов роста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480" y="728640"/>
          <a:ext cx="894384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728640"/>
                    <a:ext cx="894384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2184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156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768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976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9480" y="6248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819520"/>
            <a:ext cx="1523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76920"/>
            <a:ext cx="1523880" cy="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505320"/>
            <a:ext cx="1523880" cy="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51055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49568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80988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4876920"/>
            <a:ext cx="1600200" cy="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5486400"/>
            <a:ext cx="1600200" cy="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495680"/>
            <a:ext cx="1600200" cy="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5181480"/>
            <a:ext cx="1600200" cy="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5867280"/>
            <a:ext cx="1600200" cy="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191120"/>
            <a:ext cx="1600200" cy="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819520"/>
            <a:ext cx="0" cy="99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80988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495680"/>
            <a:ext cx="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5486400"/>
            <a:ext cx="30456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4864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5105520"/>
            <a:ext cx="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590920"/>
            <a:ext cx="7238880" cy="3352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0" cy="99036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495680"/>
            <a:ext cx="0" cy="99072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876920"/>
            <a:ext cx="0" cy="60948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4191120"/>
            <a:ext cx="0" cy="68580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191120"/>
            <a:ext cx="0" cy="167616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276720"/>
            <a:ext cx="7086600" cy="2197080"/>
          </a:xfrm>
          <a:custGeom>
            <a:avLst/>
            <a:gdLst/>
            <a:ahLst/>
            <a:rect l="l" t="t" r="r" b="b"/>
            <a:pathLst>
              <a:path w="4128" h="1336">
                <a:moveTo>
                  <a:pt x="0" y="0"/>
                </a:moveTo>
                <a:cubicBezTo>
                  <a:pt x="404" y="204"/>
                  <a:pt x="808" y="408"/>
                  <a:pt x="1152" y="624"/>
                </a:cubicBezTo>
                <a:cubicBezTo>
                  <a:pt x="1496" y="840"/>
                  <a:pt x="1744" y="1256"/>
                  <a:pt x="2064" y="1296"/>
                </a:cubicBezTo>
                <a:cubicBezTo>
                  <a:pt x="2384" y="1336"/>
                  <a:pt x="2728" y="1016"/>
                  <a:pt x="3072" y="864"/>
                </a:cubicBezTo>
                <a:cubicBezTo>
                  <a:pt x="3416" y="712"/>
                  <a:pt x="3952" y="464"/>
                  <a:pt x="4128" y="384"/>
                </a:cubicBezTo>
              </a:path>
            </a:pathLst>
          </a:custGeom>
          <a:noFill/>
          <a:ln w="25560">
            <a:solidFill>
              <a:srgbClr val="96969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3936960"/>
            <a:ext cx="7010280" cy="1943280"/>
          </a:xfrm>
          <a:custGeom>
            <a:avLst/>
            <a:gdLst/>
            <a:ahLst/>
            <a:rect l="l" t="t" r="r" b="b"/>
            <a:pathLst>
              <a:path w="4320" h="1224">
                <a:moveTo>
                  <a:pt x="0" y="736"/>
                </a:moveTo>
                <a:cubicBezTo>
                  <a:pt x="456" y="368"/>
                  <a:pt x="912" y="0"/>
                  <a:pt x="1296" y="64"/>
                </a:cubicBezTo>
                <a:cubicBezTo>
                  <a:pt x="1680" y="128"/>
                  <a:pt x="1960" y="1016"/>
                  <a:pt x="2304" y="1120"/>
                </a:cubicBezTo>
                <a:cubicBezTo>
                  <a:pt x="2648" y="1224"/>
                  <a:pt x="3024" y="856"/>
                  <a:pt x="3360" y="688"/>
                </a:cubicBezTo>
                <a:cubicBezTo>
                  <a:pt x="3696" y="520"/>
                  <a:pt x="4160" y="208"/>
                  <a:pt x="4320" y="112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600200"/>
            <a:ext cx="3733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ССР-Ро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82880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590920"/>
            <a:ext cx="1524240" cy="0"/>
          </a:xfrm>
          <a:prstGeom prst="line">
            <a:avLst/>
          </a:prstGeom>
          <a:ln w="507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209680"/>
            <a:ext cx="1524240" cy="0"/>
          </a:xfrm>
          <a:prstGeom prst="line">
            <a:avLst/>
          </a:prstGeom>
          <a:ln w="507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инамика индекса промышленного производства в России, 1990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2560" y="782640"/>
          <a:ext cx="902952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782640"/>
                    <a:ext cx="902952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V="1">
            <a:off x="6324480" y="1066320"/>
            <a:ext cx="0" cy="5257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75248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3680" y="1523880"/>
            <a:ext cx="2116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Нормальный уровен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спада в деловом цикл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75904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1400" y="2541600"/>
            <a:ext cx="1255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Структур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кризи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77820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7240" y="3456000"/>
            <a:ext cx="1846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еликая депресс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США, 19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28624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105520"/>
            <a:ext cx="308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Россия после гражданской вой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51656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343400"/>
            <a:ext cx="3504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Германия после второй мировой вой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880240" y="136188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фол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762120"/>
          <a:ext cx="9029880" cy="59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02988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2819520" y="761760"/>
            <a:ext cx="0" cy="556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15000" y="762120"/>
            <a:ext cx="0" cy="5486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6858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Денежное сжа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685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Валютный корид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68580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овая Э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екс промышленного производства в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396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8320" y="419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6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7480" y="3352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327480"/>
            <a:ext cx="8229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2560" y="3809880"/>
          <a:ext cx="901512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3809880"/>
                    <a:ext cx="901512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8389800" cy="267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2819520" y="0"/>
            <a:ext cx="0" cy="6858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0"/>
            <a:ext cx="0" cy="6858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440" y="4114800"/>
            <a:ext cx="20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Индек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отребительских це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2880" y="1219320"/>
            <a:ext cx="271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инамика денежной масс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992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762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Денежное сжа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7621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Валютный корид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68580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овая Э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57200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41008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624852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8480" y="4419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7800" y="5257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720" y="5867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2520" y="480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0600" y="571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400" y="5334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50120" y="541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2520" y="2362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42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6400" y="2514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0120" y="243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екс интенсивности структурных сдви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60" y="782640"/>
          <a:ext cx="902952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782640"/>
                    <a:ext cx="902952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2112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7800" y="441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1520" y="510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инамика цен на неф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2560" y="782640"/>
          <a:ext cx="902952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782640"/>
                    <a:ext cx="902952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14400" y="3886200"/>
            <a:ext cx="3505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352680"/>
            <a:ext cx="3504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2560" y="782640"/>
          <a:ext cx="902952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782640"/>
                    <a:ext cx="902952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352680" y="16002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инамика экспорта и импорта в 1994-2001 г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6680" y="2209680"/>
            <a:ext cx="94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Це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на неф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480" y="205740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8320" y="4495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альд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8480" y="26668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им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55200">
            <a:off x="3809520" y="4876920"/>
            <a:ext cx="1447920" cy="304560"/>
          </a:xfrm>
          <a:prstGeom prst="rightArrow">
            <a:avLst>
              <a:gd name="adj1" fmla="val 40620"/>
              <a:gd name="adj2" fmla="val 1155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4036800">
            <a:off x="4914360" y="3314880"/>
            <a:ext cx="1447920" cy="304920"/>
          </a:xfrm>
          <a:prstGeom prst="rightArrow">
            <a:avLst>
              <a:gd name="adj1" fmla="val 40620"/>
              <a:gd name="adj2" fmla="val 1154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8490800">
            <a:off x="6362640" y="2247840"/>
            <a:ext cx="1447560" cy="304560"/>
          </a:xfrm>
          <a:prstGeom prst="rightArrow">
            <a:avLst>
              <a:gd name="adj1" fmla="val 40620"/>
              <a:gd name="adj2" fmla="val 11552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6160" y="4648320"/>
            <a:ext cx="23385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 условиях укрепл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курса рубля сальд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торгового баланс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тремится к нул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4648320"/>
            <a:ext cx="358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6858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Денежное сжа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685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Валютный корид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68580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овая Э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838080"/>
            <a:ext cx="0" cy="49532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762120"/>
            <a:ext cx="0" cy="49528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3505320"/>
          <a:ext cx="82198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82198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914400"/>
          <a:ext cx="811548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914400"/>
                    <a:ext cx="81154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1676520" y="761760"/>
            <a:ext cx="0" cy="556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90920" y="761760"/>
            <a:ext cx="0" cy="556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екс промышленного производства, 1993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638680" y="761760"/>
            <a:ext cx="0" cy="556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962520" y="761760"/>
            <a:ext cx="0" cy="556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15200" y="761760"/>
            <a:ext cx="0" cy="5562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Девальв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3352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Рост цен на неф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+ девальв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5720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Инвести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в нефтегазовый комплекс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3352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Рост инвестиций в не сырьевой сектор + бум на потребительском ры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54840" y="533520"/>
            <a:ext cx="128916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Причины спада зимы 2002 года: Ухудшение внешней конъюнктуры + сокращение спрос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Причины начала подъема конца лета 2002 год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Рост цен на нефть + возврат капиталов + иностранные инвестиции 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восстановление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Спроса прежде всего за счет регион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9:48:47Z</dcterms:created>
  <dc:creator>Expert-MA</dc:creator>
  <dc:description/>
  <dc:language>en-US</dc:language>
  <cp:lastModifiedBy>operator</cp:lastModifiedBy>
  <dcterms:modified xsi:type="dcterms:W3CDTF">2002-12-14T08:46:52Z</dcterms:modified>
  <cp:revision>23</cp:revision>
  <dc:subject/>
  <dc:title>Учебная презентация</dc:title>
</cp:coreProperties>
</file>